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96C-6E69-40A1-8464-5C705BBB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01E-872D-4006-B1D1-5FD54CD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C78-3F36-41AF-9C99-473DEBB7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E64-7789-4C1F-9E92-2DFB3F99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5A0-D1F4-48A0-9C6D-DDF0123C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BEB-50D3-4C9D-A125-03E9A75E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AA0-6F7B-429D-9110-A9E3F28D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C76-355C-468C-9224-20DACFE6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A95-EE63-4822-962E-5098268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8D1-BD27-4C34-B54E-B2C0A36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AD3-2E39-4C73-AB9C-C297086C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8F6-9B07-453B-AF86-49540FC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8F4A-11DA-4F5B-B435-1ADB08C003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715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εται ὁ Ἰησους και λαμβανει τον ἀρ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ὀχλος ἠρχετο παλιν παρα την θαλασσαν προς αὐτον, και ἐδιδασκεν αὐτου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πο τοτε ἠρξατο ὁ Ἰησους κηρυσσειν και λεγειν∙ Μετανοειτε∙ προσερχεται ἡ βασιλεια των οὐραν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ἐν παραβολῃ αὐτοις∙ Δει παντοτε προσευχεσθ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ὀχλος ἐζητουν ἁπτεσθαι αὐτου∙ σημεια ἐξουσιας παρ’ αὐτου ἐξηρχε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ωαννης ἐσται μεγας ἐνωπιον του κυριου ὡς ὁ Ἠλιας∙ ἀλλ’ ὁ Ἡρῳδης πονηρ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71524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ει ὁ υἱος του ἀνθρωπου ἐρχεσθαι ἐν τῃ δοξῃ του θεου μετα των ἀγγελων αὐτου, και τοτε δεξεται ἑκαστος κατα την ζωην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προς τους μαθητας∙ Εἰ θελετε ὀπισω του υἱου του ἀνθρωπου ἐρχεσθαι, ἀρνησασθε τον Σαταναν και ἀκολουθειτε τῳ κυριῳ καθ’ ἡμερα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house of Judah prayed, ‘Lord, rescue Israel from Egypt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ijah was a great prop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were going away from the synagogue when we were going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rnabas and Paul were proclaiming the good news on the road from Jerusalem with the faithful dis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προφηται ἐκηρυξαν∙ Ἐκ της καρδιας ἐξερχεται πονηρα και ἀγαθ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ι διερχεσθαι δια της ἐρημου συν τοις στρατιωτα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ἀγαπη κακον οὐκ ἐργαζεται∙ ἡ μεγαλη ἐντολη ἐστιν ἀγαπ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ονται ἐν κυριῳ Βαρναβας και Ἰουδας οἱ μαθηται τας ἐκκλησιας της Ἰερουσαλη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εγει προς τον ἀγγελον∙ Πως ἐστ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τε ἠμην τεκνον, ἐλαλουν ὡς τεκνον, ἐλογιζομη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1714680"/>
            <a:ext cx="87156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λλα ἐρχεται ὡρα και νυν ἐστιν, ὁτε οἱ μαθηται χαρᾳ προσκυνησουσιν τῳ κυριῳ, ὡς αὐτους ζητει και προσκαλειται ὁ θε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ῥυσῃ ἀνθρωπον ἁμαρτιας ἐκ του θανατου του αἰωνι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was a brother and a disci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oldiers of Herod are passing on the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pl.) wish to go into church or to be al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Herod, Joseph and Mary were going along the sea on the road to Egypt with the child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42960" y="1571760"/>
            <a:ext cx="792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4.1-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ὶ πάλιν ἤρξατο διδάσκειν παρὰ τὴν θάλασσαν∙ καὶ συνάγετ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t was gathere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ὸς αὐτὸν ὄχλος πλεῖσ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very larg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, ὥστε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with the result 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ὸν εἰς πλοῖον ἐμβά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tting i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καθῆσθ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ῇ θαλάσσῃ, καὶ π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ὄχλος πρὸς τὴν θάλασσαν ἐπὶ τῆς γῆς ἦσαν. 2 καὶ ἐδίδασκεν αὐτοὺς ἐν παραβολαῖς πολλὰ καὶ ἔλεγεν αὐτοῖς ἐν τῇ διδαχῇ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eaching, instruct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οῦ, ..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2-25T21:16:31Z</dcterms:modified>
  <cp:revision>20</cp:revision>
  <dc:subject/>
  <dc:title>Slide 1</dc:title>
</cp:coreProperties>
</file>